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I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5560" y="49860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February 1999 (1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2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5" idx="2"/>
              <a:endCxn id="113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5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8" idx="1"/>
              <a:endCxn id="115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19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18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0" idx="2"/>
              <a:endCxn id="118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2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completed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ttribut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(see Part 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37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0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the translator provides for it,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2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5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the translator provides for it, export a lesser but fully populated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7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0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the concept of Conformance Classes as used in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Importing application not populated with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0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Importing application not populated with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ill the mapping logic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 mapping logic able to import, in isolation, each “within-scope”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the translator provides for it,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2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CIS/2 (AISC Beta) Documen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art 12a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s Base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use Definition Table in Part 1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ation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x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 use of CCs in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art 12b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ase 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onformance Class definition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spcAft>
                <a:spcPts val="3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art 12c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ase 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onformance Class definition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spcAft>
                <a:spcPts val="3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: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tem 2.3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 entity built from the EXPRESS definition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(via explicit inverse relationships - with no zero cardina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applying this pull-in until entity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5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7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48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2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7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5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76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77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4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1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4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99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0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2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1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24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27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3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45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not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rules may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lete BASE-CCs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: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45 BASE-CCs defined in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“based” on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“included” entities are l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5" name=""/>
            <p:cNvCxnSpPr>
              <a:stCxn id="76" idx="2"/>
              <a:endCxn id="77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6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0" name=""/>
              <p:cNvCxnSpPr>
                <a:stCxn id="76" idx="2"/>
                <a:endCxn id="79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2" name=""/>
            <p:cNvCxnSpPr>
              <a:stCxn id="79" idx="3"/>
              <a:endCxn id="7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97" name=""/>
          <p:cNvCxnSpPr>
            <a:stCxn id="93" idx="2"/>
            <a:endCxn id="95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99" name=""/>
            <p:cNvCxnSpPr>
              <a:stCxn id="95" idx="3"/>
              <a:endCxn id="93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0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2-25T00:32:46Z</dcterms:modified>
  <cp:revision>29</cp:revision>
  <dc:subject/>
  <dc:title>AISC CIS/2  Workshop #I</dc:title>
</cp:coreProperties>
</file>